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0C9-E265-4987-85AE-9F36156A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98B-58E2-4DE4-8E83-892AEA01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D66-DCA4-4C51-9CBC-C513CFD9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709-9E1F-4E45-9E5B-BC2EE1B0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A5A-8C52-4CE9-8080-3894B73D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4CB-B495-4C52-ACF9-EA391CE2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194-CF41-44DC-833E-1B17A3B0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A4F-1827-4529-8ACD-E9A668DD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5E9-50DE-418E-948E-4313A2F6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781-B6D9-4CD0-B1CA-40F2E924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314-4AF8-42C8-AD4B-7EBAABD5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A11-7ACD-4726-B0C8-9A8A4C73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22BD-2CDC-44D7-9D5D-1D9623C4C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14600" y="4800600"/>
            <a:ext cx="2924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esiunea iunie - 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p:transition advTm="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a3</cp:lastModifiedBy>
  <dcterms:modified xsi:type="dcterms:W3CDTF">2012-06-18T11:06:48Z</dcterms:modified>
  <cp:revision>2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